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12EE-9CE0-42AD-9E1E-FC56FA54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8FA7-2196-4A32-B5AA-2AECA6DB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C0FD-9CD0-45B8-91D1-171CD542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BD3C-0242-4EA8-A6C7-812101F6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64DD-D637-4354-ABEE-5D619B4B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851F-C8A8-4C1B-BD32-30FDF040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4BF7-BD1D-451E-8D42-FD3BF211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0C48-ED33-461A-B925-309AB663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18C2-E82E-4115-975C-B718DF28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C111-9F72-4EE1-8A07-D9902274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ACF1-B513-4FFF-B273-69963305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295F-6EFE-4863-8E22-D3FAA4C6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A6DC-00A8-4FE1-BCCC-17421676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0217-EE29-4FCC-9998-5A98A05F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D1D4-0C6B-4DAC-BA0A-70BEC7E6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7C6F-09F3-484F-BE0E-5E4E3BEA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31E4-DC3A-4AD2-B054-D29FDD837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2476-DBDB-4CAD-8B76-91C3D68B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F2CF-A4C3-4C50-BA14-BAFA6336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9E57-D887-442A-BF29-13F279E6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3145-6398-48B8-A174-8EC4E96E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F73-10E7-4B67-BAE0-296E52CA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C647-05F7-4464-BCCA-2BFEDB4D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24D7-65EB-49E9-9CC6-7BB4DD50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6F91-978B-4845-B7FA-9B3345BD32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9F9B-D511-4212-80D6-4A80335DF0F9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Mapping TAKS Selection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rra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x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Narrative – </a:t>
            </a: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with plo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Charact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utcom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Narrative – </a:t>
            </a: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without plo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cca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gnificant Characte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utcom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Functional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ype of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docu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ho used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docu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ow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document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was use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Why 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document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was use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Mixed Selection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f it is narrative with facts, use </a:t>
            </a:r>
            <a:r>
              <a:rPr b="1" lang="en-US" sz="4400" spc="-1" strike="noStrike">
                <a:solidFill>
                  <a:srgbClr val="4b4eb5"/>
                </a:solidFill>
                <a:latin typeface="Tahoma"/>
              </a:rPr>
              <a:t>narrative mapp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100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f the overall purpose is to inform, use </a:t>
            </a:r>
            <a:r>
              <a:rPr b="1" lang="en-US" sz="4400" spc="-1" strike="noStrike">
                <a:solidFill>
                  <a:srgbClr val="4b4eb5"/>
                </a:solidFill>
                <a:latin typeface="Tahoma"/>
              </a:rPr>
              <a:t>topic and main idea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to summariz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aired Selection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mmariz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each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selection b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ahoma"/>
              </a:rPr>
              <a:t>it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structur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0:50:08Z</dcterms:created>
  <dc:creator>Teresa Easterling</dc:creator>
  <dc:description/>
  <dc:language>en-US</dc:language>
  <cp:lastModifiedBy>Teresa Easterling</cp:lastModifiedBy>
  <dcterms:modified xsi:type="dcterms:W3CDTF">2008-08-01T17:46:52Z</dcterms:modified>
  <cp:revision>4</cp:revision>
  <dc:subject/>
  <dc:title>Mapping TAKS Selections</dc:title>
</cp:coreProperties>
</file>